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A5F-237B-4700-9EDC-AA0D6DA0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ED6-D1DE-44A8-B803-80AAC6FA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A8B-E009-4903-B4C4-7791D909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496-F938-46A0-B5DF-A9BE94A9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A3F70-AF88-482A-8F2F-DCF928E4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542E5-1E0B-481C-AC62-763B159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AE710-E888-499C-9C00-EA6BC03E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B96F-570C-42AC-B3B8-432EDC4A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30D23-7967-4FDB-944A-99F5D88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00C94-A49A-4FD5-BEBA-FAE5FC7D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FA93-BE69-4567-8CDB-0BCC818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08E-91B8-43E0-AE99-31647933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435E-1EBF-4869-99EC-DA89015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364CA-58A3-4C66-A1BF-BFDC07C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5856-F0AC-47A6-900D-977BD3AE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52873-5A4C-474B-AFD0-2A4B6DFB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6AB32-6B95-41FB-9DDD-A1926629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5E2-387C-4554-B56C-01200A52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B79-8445-41DB-B2E4-8853DEA3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C11-2ED0-42AF-A896-875AF193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BAF-F3DB-4ABB-BA61-5EBDE53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CA7-46A7-46C0-AEB5-B768D0B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482-538B-4D1D-9B9A-21E7B6A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00C-AAB1-4292-9385-8BBBF7D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D95-6B5C-43C3-A5BB-9BC2443C6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17A9-81D2-40C7-9971-D0229AC5B6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ий райо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10 х. Куликовског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Ленинградский район</a:t>
            </a:r>
            <a:endParaRPr b="0" lang="en-US" sz="1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«Алфави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Гласные  и  согласные звуки» </a:t>
            </a:r>
            <a:br>
              <a:rPr sz="3200"/>
            </a:b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5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исимова Т.А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писать творческую работу – сочинение-миниатюру о любых буквах алфави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4000" spc="-1" strike="noStrike">
                <a:solidFill>
                  <a:srgbClr val="c00000"/>
                </a:solidFill>
                <a:latin typeface="Tahoma"/>
              </a:rPr>
              <a:t>Спасибо  за  работу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точники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Русский язык учебник в 3-х частя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ласс/ Львова С.И., Львов В.В. –  Москва.-  Мнемозина.-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znanija.com/task/10261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еседа</a:t>
            </a:r>
            <a:endParaRPr b="0" lang="en-US" sz="6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лфавит – альфа+ вита (греч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збука – аз+ бу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91960"/>
            <a:ext cx="6934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бота над темой урока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 мы  продолжим  наш      разговор  о  звуках 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 какие  две  группы  делятся  звуки  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вуки 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гласные                          соглас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ласные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ожном мире звуков речи гласным «живется» легче, так как, образуясь, они на своем пути не встречают никаких преград – воздух свободно идет через 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сных звуков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о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э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и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ы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у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Задание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изнесите  каждый  гласный звук  в  отдельности. Проверьте правильность высказывания С.Марш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«дыхание  свободно  в  каждой  гласно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e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гласные 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личие  от  гласных, при  образовании на    своем пути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встречают препятстви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: губы, зубы, язы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и  произношении согласного  нужно  хоть  чуть-чуть приоткрыть  рот, из-за  чего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получается шум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адание.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лесу, если вы заблудились, кричите «Ау»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пробуйте прокричать, используя только согласные звук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чему не получ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кричать, нужен голос, а у согласных его почти нет, один шум име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тгадай мультфильмы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Р - с - л - чк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 - с - в - ц - - ч - д - в - щ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 - п - Д - йл сп - ш - т н - п - м - 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- н - к - л - в Пр - ст - кв - ш - н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 -, п - г - д -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ыполнение тест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 каком ряду фамилии расположены строго в алфавитном порядке? </a:t>
            </a:r>
            <a:endParaRPr b="0" lang="en-US" sz="36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I вариан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околова, Степанов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колова, Степанов, Цыганков, Федо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Степанов, Соколова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Соколова, Федотов, Цыганков, Степ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II вариант: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Михалков, Миронов, ЛиньковЛанов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Линьков, Лановой, Михалков, Мир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Лановой, Линьков, мирон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Лановой, Миронов, Линьк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дведение итогов.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Итак, что такое алфав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ля чего мы должны его хорошо зна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нам пригодятся наши зн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20T00:43:2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